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9A90-FAE3-4B3D-8947-7CBA79B5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7F25-3F3F-4414-BB20-19A94D979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29A-E9D5-4C8F-927B-4594540A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736-8315-4F01-AE89-42257EE5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4CE-349A-4671-9D0A-5D779A8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56B-C32B-4A8F-A5CF-8F145B47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BC3-FB70-4552-89E8-C86D0CE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488-D6BB-4361-B172-5A9B3B6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6D8-2CD5-4DAF-9EF1-D99ECD6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095-D86A-4A65-A285-72413AE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C99-A240-4C46-B174-4EF63AD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4A5-8ACF-40CD-93F1-4A6F355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CD-135E-454C-9477-8616589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431-0A0B-414D-9F87-ADDA872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955-7643-4FD3-BFAD-DAEFE3D8C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/imgres?imgurl=http://druffmix.com/wp-content/uploads/2009/07/arrow-down.jpg&amp;imgrefurl=http://druffmix.com/druffmix-30-the-up-and-down-default-pt-1/&amp;usg=__xWqUk5SuF_gyumYXE9C7xxlbmrM=&amp;h=600&amp;w=600&amp;sz=14&amp;hl=en&amp;start=2&amp;sig2=nIMTbhZgLYlgbW6kcVQdiw&amp;zoom=1&amp;tbnid=Ux4U2gtKSWEE7M:&amp;tbnh=135&amp;tbnw=135&amp;ei=HFrdTvv8EKe-2AW9w7mrBQ&amp;prev=/search%3Fq%3Dup%2Band%2Bdown%2Barrows%26hl%3Den%26sa%3DX%26gbv%3D2%26tbm%3Disch&amp;itbs=1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Medical Practition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Haley Mohl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Emily 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Lucida Sans"/>
              </a:rPr>
              <a:t>Faith Heal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elieved demons and evil spirits caused sickne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Got sickness out through exorc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inly seen in the Countrys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he-Exorcist"/>
          <p:cNvPicPr/>
          <p:nvPr/>
        </p:nvPicPr>
        <p:blipFill>
          <a:blip r:embed="rId1"/>
          <a:stretch/>
        </p:blipFill>
        <p:spPr>
          <a:xfrm>
            <a:off x="5181480" y="2666880"/>
            <a:ext cx="2857680" cy="3600720"/>
          </a:xfrm>
          <a:prstGeom prst="rect">
            <a:avLst/>
          </a:prstGeom>
          <a:ln w="9360">
            <a:solidFill>
              <a:srgbClr val="468a4b"/>
            </a:solidFill>
            <a:miter/>
          </a:ln>
        </p:spPr>
      </p:pic>
      <p:pic>
        <p:nvPicPr>
          <p:cNvPr id="53" name="Picture 9" descr="1314071557-easter-cross"/>
          <p:cNvPicPr/>
          <p:nvPr/>
        </p:nvPicPr>
        <p:blipFill>
          <a:blip r:embed="rId2"/>
          <a:stretch/>
        </p:blipFill>
        <p:spPr>
          <a:xfrm rot="1203600">
            <a:off x="6553080" y="1981080"/>
            <a:ext cx="1828800" cy="166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362320" cy="2054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Lucida Sans"/>
              </a:rPr>
              <a:t>Apothecaries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11" descr="apothecaryshopb"/>
          <p:cNvPicPr/>
          <p:nvPr/>
        </p:nvPicPr>
        <p:blipFill>
          <a:blip r:embed="rId2"/>
          <a:stretch/>
        </p:blipFill>
        <p:spPr>
          <a:xfrm>
            <a:off x="5181480" y="1828800"/>
            <a:ext cx="2895840" cy="4000680"/>
          </a:xfrm>
          <a:prstGeom prst="rect">
            <a:avLst/>
          </a:prstGeom>
          <a:ln w="9360">
            <a:solidFill>
              <a:srgbClr val="5c1f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harmac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Complex prescri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Lucida Sans"/>
              </a:rPr>
              <a:t>Physicia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urg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loodlet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Lucida Sans"/>
              </a:rPr>
              <a:t>Surge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de medical and social progr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ilitary surge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No knowledge of bacte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3809880" cy="26863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1026600">
            <a:off x="5638320" y="1371240"/>
            <a:ext cx="3086280" cy="25239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idw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W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Educ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Assisted with labor &amp; delivering bab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Dealt with female 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Madame Du Coudray, The Nation’s Midw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2370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99224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s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hospi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085920" cy="2857680"/>
          </a:xfrm>
          <a:prstGeom prst="rect">
            <a:avLst/>
          </a:prstGeom>
          <a:ln w="9360">
            <a:solidFill>
              <a:srgbClr val="00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Lucida Sans"/>
              </a:rPr>
              <a:t>Small pox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lack plag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Small p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reakthroughs: Lady Mary Wortley Montagu, Edward Jenne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816600">
            <a:off x="7010280" y="533520"/>
            <a:ext cx="14526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1447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Improve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180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Women became Midw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research and experi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Surgeons amputated and cauteriz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Practitioners brought knowl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to clean hospitals to reduce infection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07:47Z</dcterms:created>
  <dc:creator>Mohler</dc:creator>
  <dc:description/>
  <dc:language>en-US</dc:language>
  <cp:lastModifiedBy>Mohler</cp:lastModifiedBy>
  <dcterms:modified xsi:type="dcterms:W3CDTF">2011-12-08T02:35:36Z</dcterms:modified>
  <cp:revision>8</cp:revision>
  <dc:subject/>
  <dc:title>Medical Practitioners </dc:title>
</cp:coreProperties>
</file>